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6A79-6F36-4F06-B83A-F0CC6B64A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choi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ould you use this? Between ISPs? At ed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6477-B0AF-474E-ADF8-71386470A4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8E425-78AE-40D6-ACC4-6E2AA4C0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4565-6E74-4953-847D-453212CA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408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64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408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64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26EC-3456-4D39-8E15-81ED48BA6C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5617-2CC4-441C-B3D4-A1AEB9B1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1A1E-F59E-4E47-A9A7-757506F5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CF0B6-7F86-4627-ABEB-1C59FFA6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D3379-066E-4A17-A78D-6C423255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60EFE-C3B0-468F-83FF-DBBD0692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6C46-5310-4BEF-8666-F341C223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39BD-BF52-4F98-946A-6749D65A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7B66-818B-4321-9D58-1B6FFD26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2E05-1904-4CC8-B737-2FAFC2893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Routing (cont.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28BD-4DDE-4EC4-892D-0924AF8953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looking at RIP/OSPF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-hosts connected to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 exchange messages to determin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9810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562720" y="3048120"/>
            <a:ext cx="2209680" cy="1676160"/>
            <a:chOff x="5562720" y="3048120"/>
            <a:chExt cx="2209680" cy="1676160"/>
          </a:xfrm>
        </p:grpSpPr>
        <p:sp>
          <p:nvSpPr>
            <p:cNvPr id="69" name=""/>
            <p:cNvSpPr/>
            <p:nvPr/>
          </p:nvSpPr>
          <p:spPr>
            <a:xfrm>
              <a:off x="556272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092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8880" y="3176640"/>
              <a:ext cx="11941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3768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19720" y="3950640"/>
              <a:ext cx="101484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2240" y="3756960"/>
              <a:ext cx="101484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0556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612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0556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85000" y="2514600"/>
            <a:ext cx="26640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55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78800" y="4986360"/>
            <a:ext cx="26640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043520"/>
            <a:ext cx="26820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522600"/>
            <a:ext cx="26820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452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896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6760" y="2782800"/>
            <a:ext cx="43164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72732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11640" y="3352680"/>
            <a:ext cx="49356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3914640"/>
            <a:ext cx="4935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232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775560" y="3956040"/>
            <a:ext cx="51408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78360"/>
            <a:ext cx="49356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730560" y="4614480"/>
            <a:ext cx="17964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7372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373720" y="4005360"/>
            <a:ext cx="37152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0" y="3914640"/>
            <a:ext cx="5097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892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68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89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10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Click To Preview"/>
          <p:cNvPicPr/>
          <p:nvPr/>
        </p:nvPicPr>
        <p:blipFill>
          <a:blip r:embed="rId1"/>
          <a:stretch/>
        </p:blipFill>
        <p:spPr>
          <a:xfrm>
            <a:off x="6934320" y="2286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lick To Preview"/>
          <p:cNvPicPr/>
          <p:nvPr/>
        </p:nvPicPr>
        <p:blipFill>
          <a:blip r:embed="rId2"/>
          <a:stretch/>
        </p:blipFill>
        <p:spPr>
          <a:xfrm>
            <a:off x="5867280" y="2286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Click To Preview"/>
          <p:cNvPicPr/>
          <p:nvPr/>
        </p:nvPicPr>
        <p:blipFill>
          <a:blip r:embed="rId3"/>
          <a:stretch/>
        </p:blipFill>
        <p:spPr>
          <a:xfrm>
            <a:off x="784872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lick To Preview"/>
          <p:cNvPicPr/>
          <p:nvPr/>
        </p:nvPicPr>
        <p:blipFill>
          <a:blip r:embed="rId4"/>
          <a:stretch/>
        </p:blipFill>
        <p:spPr>
          <a:xfrm>
            <a:off x="4876920" y="3276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lick To Preview"/>
          <p:cNvPicPr/>
          <p:nvPr/>
        </p:nvPicPr>
        <p:blipFill>
          <a:blip r:embed="rId5"/>
          <a:stretch/>
        </p:blipFill>
        <p:spPr>
          <a:xfrm>
            <a:off x="48769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Click To Preview"/>
          <p:cNvPicPr/>
          <p:nvPr/>
        </p:nvPicPr>
        <p:blipFill>
          <a:blip r:embed="rId6"/>
          <a:stretch/>
        </p:blipFill>
        <p:spPr>
          <a:xfrm>
            <a:off x="6629400" y="4876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4C00-6EDC-4915-8F53-CA622516A5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14800" y="1905120"/>
            <a:ext cx="46483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3048120"/>
            <a:ext cx="2209680" cy="1676160"/>
            <a:chOff x="5638680" y="3048120"/>
            <a:chExt cx="2209680" cy="1676160"/>
          </a:xfrm>
        </p:grpSpPr>
        <p:sp>
          <p:nvSpPr>
            <p:cNvPr id="110" name=""/>
            <p:cNvSpPr/>
            <p:nvPr/>
          </p:nvSpPr>
          <p:spPr>
            <a:xfrm>
              <a:off x="563868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688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15200" y="3176640"/>
              <a:ext cx="119448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364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95680" y="3950640"/>
              <a:ext cx="101520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8200" y="3756960"/>
              <a:ext cx="101520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58188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244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8188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096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8188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4760" y="49863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43520"/>
            <a:ext cx="26856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522600"/>
            <a:ext cx="26856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120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659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92720" y="2782800"/>
            <a:ext cx="4320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0364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87960" y="3352680"/>
            <a:ext cx="49392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960" y="3914640"/>
            <a:ext cx="493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864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1160" y="3956040"/>
            <a:ext cx="51444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7960" y="3978360"/>
            <a:ext cx="49392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07240" y="4614480"/>
            <a:ext cx="17928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5004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50040" y="4005360"/>
            <a:ext cx="37116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720" y="3914640"/>
            <a:ext cx="5094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524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31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524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52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70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Click To Preview"/>
          <p:cNvPicPr/>
          <p:nvPr/>
        </p:nvPicPr>
        <p:blipFill>
          <a:blip r:embed="rId1"/>
          <a:stretch/>
        </p:blipFill>
        <p:spPr>
          <a:xfrm>
            <a:off x="5334120" y="495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5257800" y="2743200"/>
            <a:ext cx="45720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2819520"/>
            <a:ext cx="304920" cy="99036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391520" y="4191120"/>
            <a:ext cx="838080" cy="9144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0" y="2209680"/>
            <a:ext cx="1599840" cy="838440"/>
            <a:chOff x="6858000" y="2209680"/>
            <a:chExt cx="1599840" cy="838440"/>
          </a:xfrm>
        </p:grpSpPr>
        <p:sp>
          <p:nvSpPr>
            <p:cNvPr id="148" name=""/>
            <p:cNvSpPr/>
            <p:nvPr/>
          </p:nvSpPr>
          <p:spPr>
            <a:xfrm>
              <a:off x="6858000" y="2403000"/>
              <a:ext cx="6919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7200" y="2209680"/>
              <a:ext cx="8215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20320" y="2274120"/>
              <a:ext cx="8647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36320" y="2499840"/>
              <a:ext cx="8215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3560" y="2661120"/>
              <a:ext cx="735120" cy="3870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44400" y="256428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76920" y="3962520"/>
            <a:ext cx="914040" cy="609120"/>
            <a:chOff x="4876920" y="3962520"/>
            <a:chExt cx="914040" cy="609120"/>
          </a:xfrm>
        </p:grpSpPr>
        <p:sp>
          <p:nvSpPr>
            <p:cNvPr id="155" name=""/>
            <p:cNvSpPr/>
            <p:nvPr/>
          </p:nvSpPr>
          <p:spPr>
            <a:xfrm>
              <a:off x="4876920" y="4102920"/>
              <a:ext cx="39528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24880" y="3962520"/>
              <a:ext cx="46944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8040" y="4009320"/>
              <a:ext cx="49428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21520" y="4173480"/>
              <a:ext cx="4694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8720" y="4290480"/>
              <a:ext cx="4201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4220280"/>
              <a:ext cx="4201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76920" y="3276720"/>
            <a:ext cx="761760" cy="609120"/>
            <a:chOff x="4876920" y="3276720"/>
            <a:chExt cx="761760" cy="609120"/>
          </a:xfrm>
        </p:grpSpPr>
        <p:sp>
          <p:nvSpPr>
            <p:cNvPr id="162" name=""/>
            <p:cNvSpPr/>
            <p:nvPr/>
          </p:nvSpPr>
          <p:spPr>
            <a:xfrm>
              <a:off x="4876920" y="341712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0400" y="327672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4400" y="332352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47360" y="348768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3360" y="360468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7960" y="353448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5943600" y="5257800"/>
            <a:ext cx="38088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876920" y="2590920"/>
            <a:ext cx="4572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Click To Preview"/>
          <p:cNvPicPr/>
          <p:nvPr/>
        </p:nvPicPr>
        <p:blipFill>
          <a:blip r:embed="rId2"/>
          <a:stretch/>
        </p:blipFill>
        <p:spPr>
          <a:xfrm>
            <a:off x="434340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Click To Preview"/>
          <p:cNvPicPr/>
          <p:nvPr/>
        </p:nvPicPr>
        <p:blipFill>
          <a:blip r:embed="rId3"/>
          <a:stretch/>
        </p:blipFill>
        <p:spPr>
          <a:xfrm>
            <a:off x="8077320" y="44956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534520" y="4038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81480" y="2133720"/>
            <a:ext cx="1599840" cy="837720"/>
            <a:chOff x="5181480" y="2133720"/>
            <a:chExt cx="1599840" cy="837720"/>
          </a:xfrm>
        </p:grpSpPr>
        <p:sp>
          <p:nvSpPr>
            <p:cNvPr id="174" name=""/>
            <p:cNvSpPr/>
            <p:nvPr/>
          </p:nvSpPr>
          <p:spPr>
            <a:xfrm>
              <a:off x="5181480" y="232704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40680" y="213372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3800" y="219780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9800" y="242388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57040" y="258480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7880" y="248832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172200" y="4800600"/>
            <a:ext cx="1599840" cy="837720"/>
            <a:chOff x="6172200" y="4800600"/>
            <a:chExt cx="1599840" cy="837720"/>
          </a:xfrm>
        </p:grpSpPr>
        <p:sp>
          <p:nvSpPr>
            <p:cNvPr id="181" name=""/>
            <p:cNvSpPr/>
            <p:nvPr/>
          </p:nvSpPr>
          <p:spPr>
            <a:xfrm>
              <a:off x="6172200" y="499392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31400" y="480060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4520" y="486468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50520" y="509076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47760" y="525168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58600" y="515520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924680" y="3657600"/>
            <a:ext cx="762120" cy="609120"/>
            <a:chOff x="7924680" y="3657600"/>
            <a:chExt cx="762120" cy="609120"/>
          </a:xfrm>
        </p:grpSpPr>
        <p:sp>
          <p:nvSpPr>
            <p:cNvPr id="188" name=""/>
            <p:cNvSpPr/>
            <p:nvPr/>
          </p:nvSpPr>
          <p:spPr>
            <a:xfrm>
              <a:off x="7924680" y="379800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48160" y="365760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92520" y="370440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95480" y="386856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51120" y="398556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65720" y="391536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352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/OSPF not very scalab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a hierarch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ISP’s aren’t eq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 EITH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640840" y="2286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77840" y="23623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3EB6-7F77-4DD2-955B-431116B853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1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-free” with global reachability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2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onal or country-w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3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1447920"/>
            <a:ext cx="4038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952880" y="3962520"/>
            <a:ext cx="1523880" cy="990360"/>
            <a:chOff x="4952880" y="3962520"/>
            <a:chExt cx="1523880" cy="990360"/>
          </a:xfrm>
        </p:grpSpPr>
        <p:sp>
          <p:nvSpPr>
            <p:cNvPr id="202" name=""/>
            <p:cNvSpPr/>
            <p:nvPr/>
          </p:nvSpPr>
          <p:spPr>
            <a:xfrm>
              <a:off x="49528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998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82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41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061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353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257800" y="2362320"/>
            <a:ext cx="914040" cy="609120"/>
            <a:chOff x="5257800" y="2362320"/>
            <a:chExt cx="914040" cy="609120"/>
          </a:xfrm>
        </p:grpSpPr>
        <p:sp>
          <p:nvSpPr>
            <p:cNvPr id="209" name=""/>
            <p:cNvSpPr/>
            <p:nvPr/>
          </p:nvSpPr>
          <p:spPr>
            <a:xfrm>
              <a:off x="5257800" y="2502720"/>
              <a:ext cx="39528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5760" y="2362320"/>
              <a:ext cx="46944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8920" y="2409120"/>
              <a:ext cx="49428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2400" y="2573280"/>
              <a:ext cx="46944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9600" y="2690280"/>
              <a:ext cx="420120" cy="281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07120" y="2620080"/>
              <a:ext cx="420120" cy="2577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81680" y="3962520"/>
            <a:ext cx="1523880" cy="990360"/>
            <a:chOff x="6781680" y="3962520"/>
            <a:chExt cx="1523880" cy="990360"/>
          </a:xfrm>
        </p:grpSpPr>
        <p:sp>
          <p:nvSpPr>
            <p:cNvPr id="216" name=""/>
            <p:cNvSpPr/>
            <p:nvPr/>
          </p:nvSpPr>
          <p:spPr>
            <a:xfrm>
              <a:off x="67816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86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70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29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49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641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95880" y="5105520"/>
            <a:ext cx="1371240" cy="685800"/>
            <a:chOff x="6095880" y="5105520"/>
            <a:chExt cx="1371240" cy="685800"/>
          </a:xfrm>
        </p:grpSpPr>
        <p:sp>
          <p:nvSpPr>
            <p:cNvPr id="223" name=""/>
            <p:cNvSpPr/>
            <p:nvPr/>
          </p:nvSpPr>
          <p:spPr>
            <a:xfrm>
              <a:off x="6095880" y="52635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8000" y="51055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77560" y="51580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62960" y="53427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3760" y="54748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0040" y="53956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952880" y="3200400"/>
            <a:ext cx="1371240" cy="685800"/>
            <a:chOff x="4952880" y="3200400"/>
            <a:chExt cx="1371240" cy="685800"/>
          </a:xfrm>
        </p:grpSpPr>
        <p:sp>
          <p:nvSpPr>
            <p:cNvPr id="230" name=""/>
            <p:cNvSpPr/>
            <p:nvPr/>
          </p:nvSpPr>
          <p:spPr>
            <a:xfrm>
              <a:off x="4952880" y="33584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5000" y="32004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34560" y="32529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9960" y="34376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0760" y="35697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7040" y="34905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934320" y="2743200"/>
            <a:ext cx="1371240" cy="685800"/>
            <a:chOff x="6934320" y="2743200"/>
            <a:chExt cx="1371240" cy="685800"/>
          </a:xfrm>
        </p:grpSpPr>
        <p:sp>
          <p:nvSpPr>
            <p:cNvPr id="237" name=""/>
            <p:cNvSpPr/>
            <p:nvPr/>
          </p:nvSpPr>
          <p:spPr>
            <a:xfrm>
              <a:off x="6934320" y="29012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56440" y="27432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16000" y="27957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01400" y="29804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2200" y="31125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8480" y="30333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15484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0928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85960" y="28954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7616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9160" y="52578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2000" y="24638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Click To Preview"/>
          <p:cNvPicPr/>
          <p:nvPr/>
        </p:nvPicPr>
        <p:blipFill>
          <a:blip r:embed="rId1"/>
          <a:stretch/>
        </p:blipFill>
        <p:spPr>
          <a:xfrm>
            <a:off x="533412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Click To Preview"/>
          <p:cNvPicPr/>
          <p:nvPr/>
        </p:nvPicPr>
        <p:blipFill>
          <a:blip r:embed="rId2"/>
          <a:stretch/>
        </p:blipFill>
        <p:spPr>
          <a:xfrm>
            <a:off x="7391520" y="1600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715000" y="4952880"/>
            <a:ext cx="60948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62560" y="4952880"/>
            <a:ext cx="22860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429000"/>
            <a:ext cx="7596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95520" y="2133720"/>
            <a:ext cx="129564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971800"/>
            <a:ext cx="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2209680"/>
            <a:ext cx="76320" cy="6098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09880"/>
            <a:ext cx="0" cy="1526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638680" y="2133360"/>
            <a:ext cx="7632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57360" y="35053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36480" y="396252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379A-AE0F-46A0-A3C8-3C356E5B37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480" y="1600200"/>
            <a:ext cx="77724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ransit vs. Peer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962520" y="3809880"/>
            <a:ext cx="1752480" cy="990720"/>
            <a:chOff x="3962520" y="3809880"/>
            <a:chExt cx="1752480" cy="990720"/>
          </a:xfrm>
        </p:grpSpPr>
        <p:sp>
          <p:nvSpPr>
            <p:cNvPr id="265" name=""/>
            <p:cNvSpPr/>
            <p:nvPr/>
          </p:nvSpPr>
          <p:spPr>
            <a:xfrm>
              <a:off x="3962520" y="4038480"/>
              <a:ext cx="7578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46560" y="3809880"/>
              <a:ext cx="9000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8120" y="3885840"/>
              <a:ext cx="94716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15000" y="4152600"/>
              <a:ext cx="90000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83440" y="4343400"/>
              <a:ext cx="80496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7200" y="4228920"/>
              <a:ext cx="80496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447920" y="3809880"/>
            <a:ext cx="1371240" cy="685800"/>
            <a:chOff x="1447920" y="3809880"/>
            <a:chExt cx="1371240" cy="685800"/>
          </a:xfrm>
        </p:grpSpPr>
        <p:sp>
          <p:nvSpPr>
            <p:cNvPr id="272" name=""/>
            <p:cNvSpPr/>
            <p:nvPr/>
          </p:nvSpPr>
          <p:spPr>
            <a:xfrm>
              <a:off x="1447920" y="396792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0040" y="380988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29600" y="386244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15000" y="404712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55800" y="417924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080" y="410004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58000" y="2133720"/>
            <a:ext cx="1371240" cy="685800"/>
            <a:chOff x="6858000" y="2133720"/>
            <a:chExt cx="1371240" cy="685800"/>
          </a:xfrm>
        </p:grpSpPr>
        <p:sp>
          <p:nvSpPr>
            <p:cNvPr id="279" name=""/>
            <p:cNvSpPr/>
            <p:nvPr/>
          </p:nvSpPr>
          <p:spPr>
            <a:xfrm>
              <a:off x="6858000" y="22917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0120" y="21337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39680" y="21862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25080" y="23709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65880" y="25030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2160" y="24238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394520" y="40384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08920" y="22860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85600" y="396252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Click To Preview"/>
          <p:cNvPicPr/>
          <p:nvPr/>
        </p:nvPicPr>
        <p:blipFill>
          <a:blip r:embed="rId1"/>
          <a:stretch/>
        </p:blipFill>
        <p:spPr>
          <a:xfrm>
            <a:off x="17524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Click To Preview"/>
          <p:cNvPicPr/>
          <p:nvPr/>
        </p:nvPicPr>
        <p:blipFill>
          <a:blip r:embed="rId2"/>
          <a:stretch/>
        </p:blipFill>
        <p:spPr>
          <a:xfrm>
            <a:off x="7238880" y="3505320"/>
            <a:ext cx="609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3429000" y="1828800"/>
            <a:ext cx="2514600" cy="1523520"/>
            <a:chOff x="3429000" y="1828800"/>
            <a:chExt cx="2514600" cy="1523520"/>
          </a:xfrm>
        </p:grpSpPr>
        <p:sp>
          <p:nvSpPr>
            <p:cNvPr id="291" name=""/>
            <p:cNvSpPr/>
            <p:nvPr/>
          </p:nvSpPr>
          <p:spPr>
            <a:xfrm>
              <a:off x="3429000" y="2180160"/>
              <a:ext cx="108720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36520" y="1828800"/>
              <a:ext cx="129132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12440" y="1945800"/>
              <a:ext cx="135900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52280" y="2356200"/>
              <a:ext cx="129132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76720" y="2649240"/>
              <a:ext cx="1154880" cy="703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5080" y="2473200"/>
              <a:ext cx="1154880" cy="6447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162320" y="2286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Click To Preview"/>
          <p:cNvPicPr/>
          <p:nvPr/>
        </p:nvPicPr>
        <p:blipFill>
          <a:blip r:embed="rId3"/>
          <a:stretch/>
        </p:blipFill>
        <p:spPr>
          <a:xfrm>
            <a:off x="1752480" y="213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Click To Preview"/>
          <p:cNvPicPr/>
          <p:nvPr/>
        </p:nvPicPr>
        <p:blipFill>
          <a:blip r:embed="rId4"/>
          <a:stretch/>
        </p:blipFill>
        <p:spPr>
          <a:xfrm>
            <a:off x="3962520" y="52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Click To Preview"/>
          <p:cNvPicPr/>
          <p:nvPr/>
        </p:nvPicPr>
        <p:blipFill>
          <a:blip r:embed="rId5"/>
          <a:stretch/>
        </p:blipFill>
        <p:spPr>
          <a:xfrm>
            <a:off x="5257800" y="5257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33720" y="4495680"/>
            <a:ext cx="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133720" y="2971800"/>
            <a:ext cx="129528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1843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 1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4876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95480" y="4267080"/>
            <a:ext cx="99072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9625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2895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361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790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485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481500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342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4AA1-6D76-4310-87AD-437339CA4D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EB19D-FE9B-4A6D-827F-C9E4462334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oi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k state or distance vect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iversal metric – policy dec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distance-vect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man-Ford algorithm may not conve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link sta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 used by routers not the same –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S database too large – entire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expose policie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337D-0991-45BA-97B6-630C793F6B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lution: Distance Vector with 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routing update carries the entire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ps are detected as follow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S gets route check if AS already in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es, reject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o, add self and (possibly) advertise route fur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 are local - AS chooses path, protocol ensures n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0B03-C3F7-4F37-8EB0-F70E161F64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connecting BGP Pe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uses TCP to connect p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ies 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periodic refresh - routes are valid until withdrawn, or the connection is l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mental 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 control on a routing protoc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interaction during high 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4480-D291-49FB-BC48-69A85FD80C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op-by-hop Mod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advertises to neighbors only those routes that it 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t with the hop-by-hop Internet paradig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S1 cannot tell AS2 to route to other AS’s in a manner different than what AS2 has chos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24DAE-C578-43A8-83D0-50414CA35F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olicy with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provides capability for enforcing various poli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cie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 of BGP: they are provided to BGP as configuration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enforces policies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oosing paths from multiple alternativ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rolling advertisement to other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135C-2732-473E-98B0-800E6AD84E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C374-E7EB-46B9-BE61-97FC286BC0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xamples of BGP Polic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refuses to act as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path advertis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can become transit for some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advertise paths to some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S can favor or disfavor certain AS’s for traffic transit from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E875-4D11-42FA-AE98-20516030E6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Common Hea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2590920"/>
            <a:ext cx="68580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3809880"/>
            <a:ext cx="3276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3809880"/>
            <a:ext cx="2057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(1 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3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37600" y="217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013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38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112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13440" y="2894040"/>
            <a:ext cx="53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(security and message deline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3120" y="502776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: OPEN, UPDATE, NOTIFICATION, KEEP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A0E2-2396-45FB-A13C-C8C7477B69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Messa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ounces AS 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s hold tim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val between keep_alive or update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ro interval implies no keep_al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_al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periodically to ensure connectiv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in place of an UPDATE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for erro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ses TCP connection immediately afte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9504-14FC-4CDA-A522-DFBF924148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UPDATE Messa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withdraw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layer reachability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reachable prefix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prefixes advertised in message have same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C724-1FEE-42C8-AC09-B061DD088E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ath Selection Criteri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based on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s + external (policy)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 consid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rence for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nce or absence of certain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dynam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2D5D-2FB8-42CF-B63C-FD1191A9F3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OCAL PREF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19468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(within an AS) mechanism to provide relative priority among BGP ro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852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251460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724280"/>
            <a:ext cx="533412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819160" y="5410080"/>
            <a:ext cx="37335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742840" y="53341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81840" y="53481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-B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66040" y="5764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184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14760" y="510552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 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6080" y="510552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3440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26668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18720" y="312408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743200" y="28195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00600" y="28195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682F-4512-4184-ACD2-2BFE6EE138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OCAL PREF – Common U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le traffic directed to multi-homed transit custom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provider to prefer a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ing vs.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er to use peering connection, wh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customer &gt; peer &gt; provi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LOCAL PREF to ensure th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49E8-E839-4188-AB92-B0C266F70A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S_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traversed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62320" y="2362320"/>
            <a:ext cx="1828080" cy="1066320"/>
            <a:chOff x="2362320" y="2362320"/>
            <a:chExt cx="1828080" cy="1066320"/>
          </a:xfrm>
        </p:grpSpPr>
        <p:sp>
          <p:nvSpPr>
            <p:cNvPr id="384" name=""/>
            <p:cNvSpPr/>
            <p:nvPr/>
          </p:nvSpPr>
          <p:spPr>
            <a:xfrm>
              <a:off x="338940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5468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8680" y="2362320"/>
            <a:ext cx="1828080" cy="1066320"/>
            <a:chOff x="5638680" y="2362320"/>
            <a:chExt cx="1828080" cy="1066320"/>
          </a:xfrm>
        </p:grpSpPr>
        <p:sp>
          <p:nvSpPr>
            <p:cNvPr id="389" name=""/>
            <p:cNvSpPr/>
            <p:nvPr/>
          </p:nvSpPr>
          <p:spPr>
            <a:xfrm>
              <a:off x="666576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868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3868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3104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362320" y="3733920"/>
            <a:ext cx="1828080" cy="1066320"/>
            <a:chOff x="2362320" y="3733920"/>
            <a:chExt cx="1828080" cy="1066320"/>
          </a:xfrm>
        </p:grpSpPr>
        <p:sp>
          <p:nvSpPr>
            <p:cNvPr id="394" name=""/>
            <p:cNvSpPr/>
            <p:nvPr/>
          </p:nvSpPr>
          <p:spPr>
            <a:xfrm>
              <a:off x="3389400" y="37562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37339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62320" y="42649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54680" y="42649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362320" y="5105520"/>
            <a:ext cx="1828080" cy="1066320"/>
            <a:chOff x="2362320" y="5105520"/>
            <a:chExt cx="1828080" cy="1066320"/>
          </a:xfrm>
        </p:grpSpPr>
        <p:sp>
          <p:nvSpPr>
            <p:cNvPr id="399" name=""/>
            <p:cNvSpPr/>
            <p:nvPr/>
          </p:nvSpPr>
          <p:spPr>
            <a:xfrm>
              <a:off x="3389400" y="51278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51055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56365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4680" y="56365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743200" y="5424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43200" y="4038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4320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666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52578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343400" y="56386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524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2740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9B5C-C4D6-4A05-9733-F1B9112C56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IDR and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666880"/>
            <a:ext cx="21337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3886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350532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12120" y="2689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12120" y="3832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52240" y="3222720"/>
            <a:ext cx="14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T (prov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0.0/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21080" y="360360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96840" y="511668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hould T announce to 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FCA5-9A6C-4163-97E2-71DF6607D9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p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tise all path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2: through T can reach 197.8.2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3: through T can reach 197.8.3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this does not reduce routing tables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ould like to adverti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197B-CAB4-4D38-BA1D-1751A4E83F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Hierarch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at routing doesn’t s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nnot be expected to have routes to every destination (or destination net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obser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less information with increasing distance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ifferent approaches for rou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rea hierarc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dmark hierarchy (an altern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A2A0-6DDF-480C-AF03-CC6183254E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ts and Sequen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77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what do we list in the rou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itting information not accep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lead t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, X, Y: misleading, appears as 3-hop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ution: restructure AS Path attribute 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: (Sequence (T), Set (X, Y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Z wants to advertise pa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th: (Sequence (Z, T), Set (X, Y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 used only if paths in set have same attrib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86F7-7507-4E7B-B1B7-480CD29270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Exit Discriminator (MED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external neighbors about which path into an AS to pref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transitive attribute (we will see later w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AS choose different sca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when two AS’s connect to each other in more than one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39ED-3E0C-4981-9976-FF68F34FE7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R1 to use R3 over R4 li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not compare AS40’s values to AS30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1066320" y="2819160"/>
            <a:ext cx="708660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108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4852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4876920"/>
            <a:ext cx="533412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74284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62440" y="5916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6436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19080" y="502920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9480" y="510552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3044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1560" y="2971800"/>
            <a:ext cx="8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200040" y="35053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3200040" y="3962520"/>
            <a:ext cx="3352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1907-EF50-46B5-AAA4-FB48EF140B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3200400"/>
            <a:ext cx="83822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380988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4419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6880" y="4923000"/>
            <a:ext cx="500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1 ignores MED from IS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obeys MED from IS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ends up carrying traffic most of th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65760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426708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3000" y="39625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4648320"/>
            <a:ext cx="5790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33720" y="40384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9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 used in peering or provider/subscriber scenar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lead to unfairness: may force an ISP to carry more traffic than its partn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410A-DF9A-4A4A-A449-A71FCA56F2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ther Attribut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 of route (IGP, EGP,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of next hop router to 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BFD24-7DAB-47CD-9BE5-C782F48D77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ecision Proces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ing order of attribu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highest LOCAL-PR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shortest AS-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MED (if routes learned from same neighb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FAD55-F4D2-42B1-B0A3-7090324E6DA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F83E-CA9E-4DDC-827A-92012082B8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0880" y="42670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449568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4572000"/>
            <a:ext cx="22860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51814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62320" y="54100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53760" y="46879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02720" y="4876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8280" y="4952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vs. External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9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can be used by R3 and R4 to lear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R1 and R2 learn rout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1: Inject routes in I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works for small routing t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2: Use I-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0D938-0B44-4A7C-A82C-C61C55F320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messages as E-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rules about re-advertis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E-BGP can be advertise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-BGP neighbor and vice-versa, b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one I-BGP neighb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advertised to another I-BGP neighb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: no AS PATH within the same AS and thus danger of loop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2C87-C905-45CF-9AEE-F1B0BB442CC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0880" y="4419720"/>
            <a:ext cx="8382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47720" y="477360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57960" y="4849920"/>
            <a:ext cx="22860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10040" y="5459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5284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8656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09840" y="4849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86160" y="5688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76160" y="5013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67040" y="5078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43360" y="56113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08760" y="62326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171960" y="58402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171960" y="5230440"/>
            <a:ext cx="304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2104920" y="446832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485800" y="61452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9040" y="5181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4600" y="52578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1 and R2 prefixes from R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4 prefixes from R1 and R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not tell R2 prefixes from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 can only learn via a direct connection to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 I-BGP routers must be fully connected (via TCP)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ast: E-BGP sessions usually map to physical lin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BBD1-4FDC-4C32-B3F1-C2AEA9CDD1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re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network into ar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as can have nested sub-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: no path between two sub-areas of an area can exit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ically address nodes in a net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tially number top-level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-areas of area are labeled relative to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are numbered relative to the smallest containing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FD054-51FC-4AC7-B2FC-8791437AA6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nk Failur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link failu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E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I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failures are treated completely different in 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E3E5-799B-4D37-95D9-79FA68B56EE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0880" y="3657600"/>
            <a:ext cx="838224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3962520"/>
            <a:ext cx="213336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5480" y="4572000"/>
            <a:ext cx="3812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962520"/>
            <a:ext cx="213372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45720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48006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4648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2120" y="492300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6520" y="423720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608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420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5638320" y="48765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276720" y="48765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314240" y="4640400"/>
            <a:ext cx="235800" cy="309960"/>
            <a:chOff x="4314240" y="4640400"/>
            <a:chExt cx="235800" cy="309960"/>
          </a:xfrm>
        </p:grpSpPr>
        <p:sp>
          <p:nvSpPr>
            <p:cNvPr id="525" name=""/>
            <p:cNvSpPr/>
            <p:nvPr/>
          </p:nvSpPr>
          <p:spPr>
            <a:xfrm flipV="1">
              <a:off x="4314240" y="4645440"/>
              <a:ext cx="235800" cy="29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4321080" y="4640400"/>
              <a:ext cx="221400" cy="30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f an E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link R1-R2 goe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CP connection brea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 routes are remo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si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77A4-8736-4DE8-B951-A2EFC40A480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0880" y="3962520"/>
            <a:ext cx="83822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4114800"/>
            <a:ext cx="381024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41911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864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048120" y="449532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4495680"/>
            <a:ext cx="10670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5356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4419360" y="4571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124080" y="45716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03720" y="431316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9525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21560" y="55324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2670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3200" y="4898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43920" y="4213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391200" y="4653000"/>
            <a:ext cx="380880" cy="370080"/>
            <a:chOff x="3391200" y="4653000"/>
            <a:chExt cx="380880" cy="370080"/>
          </a:xfrm>
        </p:grpSpPr>
        <p:sp>
          <p:nvSpPr>
            <p:cNvPr id="547" name=""/>
            <p:cNvSpPr/>
            <p:nvPr/>
          </p:nvSpPr>
          <p:spPr>
            <a:xfrm flipV="1">
              <a:off x="3391200" y="4830480"/>
              <a:ext cx="380880" cy="15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535560" y="4653000"/>
              <a:ext cx="91440" cy="37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n an I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R1-R2 down =&gt; R1 and R2 can still exchange traff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path through R3 must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BGP and I-BGP use different conventions with respect to TCP endpo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-BGP: no multihop -- I-BGP: multihop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4881-2D7B-4023-9078-2590BF0F0DA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B3A2-67E5-4393-9B16-56454839BD2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ulti-hom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has several connections to the Interne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s reliability and performan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ccommodate link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is sum of links to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ting policy right (MED, etc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DEE4-4C09-4C29-8DE3-FEDC3897FD8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 to Multiple Provid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6576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 issu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 address spa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 and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tained independ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BF7C-1855-427F-9FD9-F66EE7AE267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one IS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uses address space from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dvertises /16 aggreg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advertises /24 route to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 relays route to ISP1 and ISP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-3 use /24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direc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s with traffic loa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62720" y="4114800"/>
            <a:ext cx="5331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1270-A59E-4EE8-AF36-FDEF92691A4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itfal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ggregates to a /19 at border router to reduce internal t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still announces /1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hears /24 from ISP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packets for customer to ISP2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around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ject /24 in I-BG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477120" y="342900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75760" y="42656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0/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029200" y="3885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57D7-CE68-4734-B0DB-FD5AAC3B61D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Both ISP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nd ISP2 continue to announce aggreg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sharing depends on traffic to two prefix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ck of reliability: if ISP1 link goes down, part of customer becomes inaccess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may announce prefixes to both ISPs, but still problems with longest match as in case 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5156640" y="446256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518960" y="441792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4.70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AC5B-0115-4ED6-AE92-808F85A5595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dependent Address Spac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17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the most control, but at the cost of aggreg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need to control pa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ISP’s ignore advertisements of less than /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0BBA3-65EF-40A3-A4F9-B3EB5D2EF7B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44F1-3231-4C63-A001-BCA4C27661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D7A5-5C0C-4978-AADB-CD998B9766E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igns of Routing Instabilit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ed BGP messages at major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s of magnitude more updates than exp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lk: duplicate withdraw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implementation of BGP – did not keep track of information passed to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act of few implemen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frequency (30/60 sec)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action with other local routing/links etc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0057-BB96-409E-BB69-3C66E582695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Stor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4582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s fail to send Keep_Alive message and marked a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-BGP peers find alternate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 re-establishes peering s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send large updat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d load causes more routers to fail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80BB-B84A-4F92-83FD-3F95053EB55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Dampen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 now give higher priority to BGP/Keep_Alive to avoid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ociate a penalty with each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 when route fla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lly decay penalty with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enalty reaches threshold, suppress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33D1-3234-4961-B35B-149725D26C9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014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74600" y="2286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507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929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32EAD-CA60-4B99-9664-3F8BD92C2BF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5056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3636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0088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267080" y="304776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048120" y="4191120"/>
            <a:ext cx="7617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648320" y="4114800"/>
            <a:ext cx="838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39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251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160" y="24526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60600" y="49528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9800" y="5029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A38E-EEBF-42E9-89C6-6AC1F2C61A3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9672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7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3140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666880" y="281952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76920" y="281952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1588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24780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4880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9848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9692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576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80DA-374A-4E70-BEEF-D52F9C1E265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80132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360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2952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113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241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724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8708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60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716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D58E-EB7B-4741-A17E-98A7019689C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7640" y="24526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3440" y="4952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356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3443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5029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3960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965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2220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888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50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6E8E-ECCF-470C-B311-0040768DBAC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33360" y="24382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23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7108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6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916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280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55720" y="24382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953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68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7B92-5DF6-4A1E-BA62-6E131359223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’s Area Hierarch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utonomous Syst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S)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t of routers under a single technical administration,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rior gateway protocol (I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common metrics to route packets within the AS and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xterior gateway protocol (E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route packet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AS assigned unique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’s peer at network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97AF-0B55-4394-874D-F4918F789C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90240" y="25290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21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9760" y="5043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8864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90800" y="25290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566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9488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71480" y="252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148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2512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9893-15FA-44F3-BCAB-8B74D40454C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possible explore every possible path through net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-1)! Combin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between update messages (MinRouteAdver) reduces expl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ces router to process all outstanding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Internet failover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/short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6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imple replacement at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8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earch of possible op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2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replacement or search based on leng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ECF7-ED19-4A24-A311-C02F95AE783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80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in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to every other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sid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for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other top-level areas on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 Inter-area packets to nearest appropriate border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sult in sub-optimal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E4AE-8C19-4CA5-85B3-82C30DDDC0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I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157140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common IGP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: Routing Information Protoc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1: 1988, v2: 199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PF: Open Shortest Path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988 - 199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S-IS: Intermediate system to intermediate syste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(mid to end 9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RP: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nhanc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ior Gateway Routing Protocol (Cisco proprietary, mid-8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3145-3753-4591-A200-B2A59C72BE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E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-80s: E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hability protocol (no shortest pa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d not accommodate cycles (tree topolo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olved when all networks connected to NSF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BGP introduced as routing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est version = BGP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-4 supports CI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ry objective: connectivity not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80D7-E985-47AB-8928-6C4682E581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Anja Feldmann</dc:creator>
  <dc:description/>
  <dc:language>en-US</dc:language>
  <cp:lastModifiedBy>anja</cp:lastModifiedBy>
  <dcterms:modified xsi:type="dcterms:W3CDTF">2004-01-08T13:00:27Z</dcterms:modified>
  <cp:revision>199</cp:revision>
  <dc:subject/>
  <dc:title>Part I: Introduction</dc:title>
</cp:coreProperties>
</file>